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862-5314-487B-931A-2C7F4B8AF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2572-687B-4EE3-97C7-9D1F995B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BA8-C869-48D2-9B97-0C75922F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B7FE-AD5E-41F9-ADAE-98D25EA4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F969-9314-4F91-8A80-C86D9D4C7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FC4-9C43-47C4-8BC4-E69702A0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57D-4568-4E8D-B802-D7155F16B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6D7C-5F07-43D6-B866-960C922E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CA27-0C1C-4CBE-985B-5D083206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B11-73C6-4375-8470-A3DADBCD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AE6-1AD1-4DE6-9EF7-B1B772E46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524A-6BD0-42BD-AFA8-69A5B725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B12A-DDBC-4876-AD58-78663DFE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6F27-1C8A-4825-AB34-83F303EF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1962-8A47-4956-B67A-C6EFCDEC0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085-E174-4401-97F7-3806C0750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6B0B-8313-4E07-9438-02E8762B9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0D58-D4A7-4239-BE75-76B0087F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5A04-B79E-4184-9310-002BA85AA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DAE3-8AFA-4A6E-973C-671BB469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69B-4BD9-4EC0-9527-45C75F56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B74-7FC9-4712-9327-0DDB7DF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41B-67F3-4AEB-A484-67719F4D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148-DF4D-4593-B94A-30B6EEEA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936-1870-4F8D-9ED5-6D79E24B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6BA-ACC0-4F1D-AC74-2F9A6FA4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7AE-B471-4A1A-B56D-4BA2EC00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B83-64DE-4385-B64C-357E232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14B-3E77-455D-90B5-E2F5B2D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D2B-CC81-461E-BA67-692A12C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3ED-A1BF-4E55-9651-114A0E2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165-07D0-49A6-B9AD-D8075A7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A93D-B109-48D4-9BA9-F4E60D90C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0" y="152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saac Newt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gland   mid-1600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7" descr="newton"/>
          <p:cNvPicPr/>
          <p:nvPr/>
        </p:nvPicPr>
        <p:blipFill>
          <a:blip r:embed="rId1"/>
          <a:stretch/>
        </p:blipFill>
        <p:spPr>
          <a:xfrm>
            <a:off x="304920" y="1371600"/>
            <a:ext cx="2666880" cy="2500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8"/>
          <p:cNvSpPr/>
          <p:nvPr/>
        </p:nvSpPr>
        <p:spPr>
          <a:xfrm>
            <a:off x="2590920" y="2895480"/>
            <a:ext cx="6781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stellar"/>
              </a:rPr>
              <a:t>Newton’s </a:t>
            </a:r>
            <a:r>
              <a:rPr b="1" lang="en-US" sz="8000" spc="-1" strike="noStrike">
                <a:solidFill>
                  <a:srgbClr val="000000"/>
                </a:solidFill>
                <a:latin typeface="Castellar"/>
              </a:rPr>
              <a:t>3 Laws of Mo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W183_P_04"/>
          <p:cNvPicPr/>
          <p:nvPr/>
        </p:nvPicPr>
        <p:blipFill>
          <a:blip r:embed="rId1"/>
          <a:stretch/>
        </p:blipFill>
        <p:spPr>
          <a:xfrm>
            <a:off x="0" y="2971800"/>
            <a:ext cx="3168720" cy="586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W148_04"/>
          <p:cNvPicPr/>
          <p:nvPr/>
        </p:nvPicPr>
        <p:blipFill>
          <a:blip r:embed="rId2"/>
          <a:stretch/>
        </p:blipFill>
        <p:spPr>
          <a:xfrm>
            <a:off x="3124080" y="2895480"/>
            <a:ext cx="3549600" cy="5562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57200" y="2286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friction between two surfaces depends on  3 fac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G04_05A"/>
          <p:cNvPicPr/>
          <p:nvPr/>
        </p:nvPicPr>
        <p:blipFill>
          <a:blip r:embed="rId1"/>
          <a:stretch/>
        </p:blipFill>
        <p:spPr>
          <a:xfrm>
            <a:off x="0" y="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FG04_05B"/>
          <p:cNvPicPr/>
          <p:nvPr/>
        </p:nvPicPr>
        <p:blipFill>
          <a:blip r:embed="rId2"/>
          <a:stretch/>
        </p:blipFill>
        <p:spPr>
          <a:xfrm>
            <a:off x="2286000" y="228600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G04_05C"/>
          <p:cNvPicPr/>
          <p:nvPr/>
        </p:nvPicPr>
        <p:blipFill>
          <a:blip r:embed="rId3"/>
          <a:stretch/>
        </p:blipFill>
        <p:spPr>
          <a:xfrm>
            <a:off x="5791320" y="462276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819520" y="228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 pushes a 50 kg load  on a cart with 90  Newtons of force .  Find the cart’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8600" y="25909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wo men each push a 50 kg load  on a cart with 90  Newtons of force each.  Find the cart’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52578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 pushes a 100 kg load  on a cart with 90  Newtons of force .  Find the cart’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E05_18"/>
          <p:cNvPicPr/>
          <p:nvPr/>
        </p:nvPicPr>
        <p:blipFill>
          <a:blip r:embed="rId1"/>
          <a:stretch/>
        </p:blipFill>
        <p:spPr>
          <a:xfrm>
            <a:off x="-838080" y="2057400"/>
            <a:ext cx="7010280" cy="5259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533520" y="0"/>
            <a:ext cx="8001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Free body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rawing of all the forces acting on a body.  It is helpful to isolate the body first by drawing a circle around it.  All objects that cut the circle provide a contact force. Invisible forces that may be present are weight and fri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914400" y="609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 of gravity I also called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943600" y="3808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828800" y="1143000"/>
            <a:ext cx="2819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gra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91320" y="12952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362320" y="2209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495680" y="274320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 = 9.81 m/s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i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acceleration of grav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380880"/>
            <a:ext cx="7696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ate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lving problems involving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aw F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971800" y="17524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= ma in one direction at a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943600" y="1752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olve for desire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H04_32"/>
          <p:cNvPicPr/>
          <p:nvPr/>
        </p:nvPicPr>
        <p:blipFill>
          <a:blip r:embed="rId1"/>
          <a:stretch/>
        </p:blipFill>
        <p:spPr>
          <a:xfrm>
            <a:off x="0" y="3352680"/>
            <a:ext cx="3581280" cy="325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ic Problem: 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04920" y="9144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300 N flower basket is held up by two vertical ropes.  Find the tension in each 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934320" y="228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aw F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09480" y="19810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= ma in one direction at a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3434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olve for desire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150_04"/>
          <p:cNvPicPr/>
          <p:nvPr/>
        </p:nvPicPr>
        <p:blipFill>
          <a:blip r:embed="rId1"/>
          <a:stretch/>
        </p:blipFill>
        <p:spPr>
          <a:xfrm>
            <a:off x="0" y="914400"/>
            <a:ext cx="3409920" cy="640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038480" y="38088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pull an object, friction grows to stop you, until the rough interlocking ridges between surfaces finally gives. This maximum value is called “static fri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your moving, the rough ridges don’t lock as tightly.  You have less friction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648320" y="4876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“kinetic fri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FG04_11E"/>
          <p:cNvPicPr/>
          <p:nvPr/>
        </p:nvPicPr>
        <p:blipFill>
          <a:blip r:embed="rId1"/>
          <a:stretch/>
        </p:blipFill>
        <p:spPr>
          <a:xfrm>
            <a:off x="0" y="-533520"/>
            <a:ext cx="4952880" cy="3302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352680" y="1828800"/>
            <a:ext cx="5334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 kg block is pushed up with 50 N of force.  Find it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G04_035"/>
          <p:cNvPicPr/>
          <p:nvPr/>
        </p:nvPicPr>
        <p:blipFill>
          <a:blip r:embed="rId1"/>
          <a:stretch/>
        </p:blipFill>
        <p:spPr>
          <a:xfrm>
            <a:off x="0" y="0"/>
            <a:ext cx="4648320" cy="3098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895480" y="2286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pushes an old fashioned lawnmower at  a constant speed of 3 m/s.  She pushes with 100 N at an angle of 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6483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FBD and find the vertical and horizontal components of her pus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8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riction must there b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FG04_034"/>
          <p:cNvPicPr/>
          <p:nvPr/>
        </p:nvPicPr>
        <p:blipFill>
          <a:blip r:embed="rId1"/>
          <a:stretch/>
        </p:blipFill>
        <p:spPr>
          <a:xfrm>
            <a:off x="4419720" y="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3352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orizontal force on th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5720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8088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F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4952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ertical component of the pull of the 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0000"/>
                </a:solidFill>
                <a:latin typeface="Arial"/>
              </a:rPr>
              <a:t>Newton'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4191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"An object at rest remains at rest, and an object in motion continues in motion with constant velocity unless it experiences a net external force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152280" y="-228600"/>
            <a:ext cx="8991720" cy="3889440"/>
            <a:chOff x="152280" y="-228600"/>
            <a:chExt cx="8991720" cy="3889440"/>
          </a:xfrm>
        </p:grpSpPr>
        <p:pic>
          <p:nvPicPr>
            <p:cNvPr id="54" name="Picture 4" descr="Galileos Incl Plane Photo"/>
            <p:cNvPicPr/>
            <p:nvPr/>
          </p:nvPicPr>
          <p:blipFill>
            <a:blip r:embed="rId1"/>
            <a:stretch/>
          </p:blipFill>
          <p:spPr>
            <a:xfrm>
              <a:off x="3886200" y="-228600"/>
              <a:ext cx="5257800" cy="38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Galileo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373392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4114800" y="-152280"/>
              <a:ext cx="434340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is is really Galileo’s Law of Inert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FG04_034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03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09480" y="3049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x has a mass of 8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81240" y="297180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410080" y="2895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ormal force  that the ground pushes 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-3733920" y="-1676520"/>
          <a:ext cx="12268440" cy="920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33920" y="-1676520"/>
                    <a:ext cx="12268440" cy="920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3"/>
          <p:cNvSpPr/>
          <p:nvPr/>
        </p:nvSpPr>
        <p:spPr>
          <a:xfrm>
            <a:off x="5638680" y="0"/>
            <a:ext cx="37339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force is zero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doesn’t mean that no forces are acting….they could justadd up to zer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144_04"/>
          <p:cNvPicPr/>
          <p:nvPr/>
        </p:nvPicPr>
        <p:blipFill>
          <a:blip r:embed="rId1"/>
          <a:stretch/>
        </p:blipFill>
        <p:spPr>
          <a:xfrm>
            <a:off x="1295280" y="2057400"/>
            <a:ext cx="5945400" cy="784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09480" y="3049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, the normal reaction force and weight canc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26"/>
          <p:cNvSpPr/>
          <p:nvPr/>
        </p:nvSpPr>
        <p:spPr>
          <a:xfrm>
            <a:off x="30492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normal force of the floor always cancel your weigh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4191120" y="8380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f the floor is horizonta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30" descr="R05_21"/>
          <p:cNvPicPr/>
          <p:nvPr/>
        </p:nvPicPr>
        <p:blipFill>
          <a:blip r:embed="rId1"/>
          <a:stretch/>
        </p:blipFill>
        <p:spPr>
          <a:xfrm>
            <a:off x="0" y="2209680"/>
            <a:ext cx="5437080" cy="494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1" descr="SE05_09"/>
          <p:cNvPicPr/>
          <p:nvPr/>
        </p:nvPicPr>
        <p:blipFill>
          <a:blip r:embed="rId2"/>
          <a:stretch/>
        </p:blipFill>
        <p:spPr>
          <a:xfrm>
            <a:off x="3809880" y="1752480"/>
            <a:ext cx="4038840" cy="303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32" descr="N08_09"/>
          <p:cNvPicPr/>
          <p:nvPr/>
        </p:nvPicPr>
        <p:blipFill>
          <a:blip r:embed="rId3"/>
          <a:stretch/>
        </p:blipFill>
        <p:spPr>
          <a:xfrm>
            <a:off x="5715000" y="3740040"/>
            <a:ext cx="34290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0000"/>
                </a:solidFill>
                <a:latin typeface="Arial"/>
              </a:rPr>
              <a:t>Newton's Second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T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leration of an object is directly proportional to the net external force acting on the object and inversely proportional to the mass of the object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a=F/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as commonly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8800" spc="-1" strike="noStrike">
                <a:solidFill>
                  <a:srgbClr val="ff0066"/>
                </a:solidFill>
                <a:latin typeface="Arial"/>
              </a:rPr>
              <a:t>F= m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H04_08"/>
          <p:cNvPicPr/>
          <p:nvPr/>
        </p:nvPicPr>
        <p:blipFill>
          <a:blip r:embed="rId1"/>
          <a:stretch/>
        </p:blipFill>
        <p:spPr>
          <a:xfrm>
            <a:off x="4495680" y="2214720"/>
            <a:ext cx="5105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0000"/>
                </a:solidFill>
                <a:latin typeface="Arial"/>
              </a:rPr>
              <a:t>Newton's Second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31240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ncrease the rate at which this  guy accelerates backwar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sodbkick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0000"/>
                </a:solidFill>
                <a:latin typeface="Arial"/>
              </a:rPr>
              <a:t>Newton's Third L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4920" y="83808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very action there is an equal and opposite reac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B02_29"/>
          <p:cNvPicPr/>
          <p:nvPr/>
        </p:nvPicPr>
        <p:blipFill>
          <a:blip r:embed="rId1"/>
          <a:stretch/>
        </p:blipFill>
        <p:spPr>
          <a:xfrm>
            <a:off x="380880" y="2286000"/>
            <a:ext cx="4675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orseCart1"/>
          <p:cNvPicPr/>
          <p:nvPr/>
        </p:nvPicPr>
        <p:blipFill>
          <a:blip r:embed="rId1"/>
          <a:stretch/>
        </p:blipFill>
        <p:spPr>
          <a:xfrm>
            <a:off x="2362320" y="1523880"/>
            <a:ext cx="4228920" cy="2160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762120" y="0"/>
            <a:ext cx="7772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0000"/>
                </a:solidFill>
                <a:latin typeface="Arial"/>
              </a:rPr>
              <a:t>Newton's Third L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07:05Z</dcterms:created>
  <dc:creator>jkeelty</dc:creator>
  <dc:description/>
  <dc:language>en-US</dc:language>
  <cp:lastModifiedBy>Template, Profile</cp:lastModifiedBy>
  <cp:lastPrinted>2017-10-24T15:59:35Z</cp:lastPrinted>
  <dcterms:modified xsi:type="dcterms:W3CDTF">2017-10-24T16:00:05Z</dcterms:modified>
  <cp:revision>24</cp:revision>
  <dc:subject/>
  <dc:title>PowerPoint Presentation</dc:title>
</cp:coreProperties>
</file>